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CBA-A0DE-4D94-8AA7-59093537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91F-E7CB-4697-A4AA-70E00472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63A-EB08-4318-9AF6-D2ED8224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FD6-5D78-49FC-989A-0D1B840F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29A7-E03E-4671-BAB9-16C4B5D6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2122-CACE-4A9B-8E30-6C4E7916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2D9D-2B86-42A6-A177-DAEBD87A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C735-AB36-4682-B5CD-34E448C4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4F72-29F1-4E0B-AE56-9320D26F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E0A8-FB13-4ABE-A4F1-88C16BAA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2FB1-F1BB-45CB-9543-89071C0A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1AD-F507-4C34-9CCA-7E60C1AA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C2DD-F62E-4555-ABB3-1AD3347D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A55B-A080-40C7-8125-64A1E4C4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2597-026B-4850-8F58-7FBC0904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84DC-89DD-4BF5-88F8-8579A8C1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7BCC-5EBB-4109-98E0-55D40753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DEE-BC5F-44FF-80E1-D39C6F3A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D61-92C3-48DD-9312-EE04612E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783-F518-43E2-80AF-9EBC0603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F5C-063D-4BF0-97D6-AB0DA627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594-F55E-4EEE-9192-4E632058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FF6-216F-4EB5-ACE5-6A145076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447-23C8-4788-A257-B9A6BAF0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81B6-589D-47FE-BF60-2D8245A067B3}" type="slidenum">
              <a:rPr b="0" lang="en-US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4B3B-7BC2-4526-8822-AE71E0C6B7F7}" type="slidenum">
              <a:rPr b="0" lang="en-US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ucalgary.ca/honesty/" TargetMode="External"/><Relationship Id="rId4" Type="http://schemas.openxmlformats.org/officeDocument/2006/relationships/hyperlink" Target="http://www.ucalgary.ca/pubs/calendar/2007/how/How_LB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1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1841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hreya Raw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All the work you submit must be original, and developed by you. If in doubt, check the U of C's honesty policy: </a:t>
            </a:r>
            <a:r>
              <a:rPr b="0" lang="en-GB" sz="2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ucalgary.ca/honesty/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and check with your TA. Also be aware of U of C's definitions of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</a:rPr>
              <a:t>Plagiarism/Cheating/Other Academic Misconduct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and the penalties and procedures associated with incidents of Plagiarism/Cheating/Other Academic Misconduct: </a:t>
            </a:r>
            <a:r>
              <a:rPr b="0" lang="en-GB" sz="24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ucalgary.ca/pubs/calendar/2007/how/How_LB.htm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682560" y="146160"/>
            <a:ext cx="6881760" cy="235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4400" spc="-1" strike="noStrike">
                <a:solidFill>
                  <a:srgbClr val="c9c2d1"/>
                </a:solidFill>
                <a:latin typeface="Book Antiqua"/>
              </a:rPr>
              <a:t>Deadline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9c2d1"/>
                </a:solidFill>
                <a:latin typeface="Book Antiqua"/>
              </a:rPr>
              <a:t>February 23</a:t>
            </a:r>
            <a:r>
              <a:rPr b="0" lang="en-GB" sz="2800" spc="-1" strike="noStrike" baseline="30000">
                <a:solidFill>
                  <a:srgbClr val="c9c2d1"/>
                </a:solidFill>
                <a:latin typeface="Book Antiqua"/>
              </a:rPr>
              <a:t>rd</a:t>
            </a:r>
            <a:r>
              <a:rPr b="0" lang="en-GB" sz="2800" spc="-1" strike="noStrike">
                <a:solidFill>
                  <a:srgbClr val="c9c2d1"/>
                </a:solidFill>
                <a:latin typeface="Book Antiqua"/>
              </a:rPr>
              <a:t> 2009, 11:59 pm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create a dashboard in Excel that summarizes the complex statistical data collect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Use file: ClassSurvey-Jalal.x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1. To practice good spreadsheet design principles as given in the class lectur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2. To introduce you to a realistic data analysis exercise using spreadsheet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3. To allow you to design an information dashboard summarizing a large number of fields into a few informative char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ll in the following tabs: Introduction, Model, Data Dictionary. The model tab must include a rationale for the calculated fields you create, summary statistics, and dashboard design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dd to the Data Tab: New calculated fields and new summary statistics calculations. For top marks you must create a new calculated field using either an “If” or a “Lookup” function. Make sure it is clear what is “Raw Data”, what are “Calculated Variables” and what are “Summary Calculations”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dd to the Dashboard tab: 3 charts you have designed to summarize the data with appropriate titles, legends, and annotations. Include on the Dashboard tab a section where in a few sentences you interpret each chart. Make your information dashboard as clear, concise, and informative as possible, using good visual design principles.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tion Dashboard Design by Stephen Few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 Display of Qualitative Information by Edward Tuft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lements of Graphing Data by William Clevelan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This assignment is worth 8% of your final grade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    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Grading: 100 Points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Introduction, Model and Data Dictionary Tab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3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Design and Clarity of the Data and Dashboard tabs –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30 points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Accuracy of all calculation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2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Originality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1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Comprehensivenes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10 poin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Note – by “comprehensiveness” what is meant is designing the dashboard so it reflects as much of the raw data as possible in a few clear and informative chart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Name the assignment file: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Assign1_LastName_FirstName_StudentID.xl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You may use Excel, Open Office Spreadsheet, or Google Spreadsheet &amp; Docs – but must submit an .xls fil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reya Rawal</cp:lastModifiedBy>
  <dcterms:modified xsi:type="dcterms:W3CDTF">2009-01-26T17:16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